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1EB6-D96B-4B7B-AF8B-252581FC9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E77C-B3F6-4A2C-B548-7EF8B30E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696B-D13D-493B-B8C4-BF36D9399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80C8-C486-425E-8686-A622DD4B5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DF0F-E9E4-43B9-A628-BB72C254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B1C7-CEE0-4B62-9590-CAEFD858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F1C0-168F-4C53-92FF-1780E4D3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617A-F627-491C-A313-0AE22F6E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6CB8-87A9-4B25-B5AB-EA14D38F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D991-8095-41B4-B4E1-A672A9DC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8CEE-E3EB-490B-B140-E7221E34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F9CE-D3A3-4394-A67D-D6F4DF09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2E1D-3945-4D82-A15F-BA872A94A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bensguide.gpo.gov/3-5/state/utah.html" TargetMode="External"/><Relationship Id="rId4" Type="http://schemas.openxmlformats.org/officeDocument/2006/relationships/hyperlink" Target="http://www.enchantedlearning.com/usa/statesbw/utah.shtml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www.enchantedlearning.com/usa/states/utah/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486400" y="4191120"/>
            <a:ext cx="3200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s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1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0" y="838080"/>
            <a:ext cx="464832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99ff66"/>
                    </a:gs>
                    <a:gs pos="100000">
                      <a:srgbClr val="915cd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erlin Sans FB Demi"/>
              </a:rPr>
              <a:t>Utah</a:t>
            </a:r>
            <a:endParaRPr b="0" lang="en-US" sz="9600" spc="1" strike="noStrike">
              <a:ln w="0">
                <a:noFill/>
              </a:ln>
              <a:gradFill rotWithShape="0">
                <a:gsLst>
                  <a:gs pos="0">
                    <a:srgbClr val="99ff66"/>
                  </a:gs>
                  <a:gs pos="100000">
                    <a:srgbClr val="915cd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erlin Sans FB Demi"/>
              <a:ea typeface="Berlin Sans FB Dem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radley Hand ITC"/>
              </a:rPr>
              <a:t>Capitol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~ Salt Lake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radley Hand ITC"/>
              </a:rPr>
              <a:t>Population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~ 2,233,1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radley Hand ITC"/>
              </a:rPr>
              <a:t>Entered the Union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~ January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radley Hand ITC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, 18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radley Hand ITC"/>
              </a:rPr>
              <a:t>Number Entered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~ 4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radley Hand ITC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radley Hand ITC"/>
              </a:rPr>
              <a:t>Motto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~ “Industr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radley Hand ITC"/>
              </a:rPr>
              <a:t>Nickname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~ Beehive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radley Hand ITC"/>
              </a:rPr>
              <a:t>Flower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~ Sego L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radley Hand ITC"/>
              </a:rPr>
              <a:t>Bird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~ The common American seag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radley Hand ITC"/>
              </a:rPr>
              <a:t>Song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~ Utah, we love th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radley Hand ITC"/>
              </a:rPr>
              <a:t>Meaning behind name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~ Indian tribe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c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 u="sng">
                <a:solidFill>
                  <a:srgbClr val="000000"/>
                </a:solidFill>
                <a:uFillTx/>
                <a:latin typeface="Bradley Hand ITC"/>
              </a:rPr>
              <a:t>Interesting Facts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Utah’s state gem is a Topa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State dance ~ Square d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Largest City ~ Salt Lake 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Utah is the 34</a:t>
            </a:r>
            <a:r>
              <a:rPr b="0" lang="en-US" sz="4000" spc="-1" strike="noStrike" baseline="30000">
                <a:solidFill>
                  <a:srgbClr val="000000"/>
                </a:solidFill>
                <a:latin typeface="Berlin Sans FB Demi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 most popular s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5cde"/>
            </a:gs>
            <a:gs pos="100000">
              <a:srgbClr val="cc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Utah: Map and State Flag"/>
          <p:cNvPicPr/>
          <p:nvPr/>
        </p:nvPicPr>
        <p:blipFill>
          <a:blip r:embed="rId1"/>
          <a:srcRect l="0" t="0" r="0" b="69202"/>
          <a:stretch/>
        </p:blipFill>
        <p:spPr>
          <a:xfrm>
            <a:off x="228600" y="4648320"/>
            <a:ext cx="2666880" cy="1635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Utah: Map and State Flag"/>
          <p:cNvPicPr/>
          <p:nvPr/>
        </p:nvPicPr>
        <p:blipFill>
          <a:blip r:embed="rId2"/>
          <a:srcRect l="0" t="37218" r="0" b="0"/>
          <a:stretch/>
        </p:blipFill>
        <p:spPr>
          <a:xfrm>
            <a:off x="304920" y="1143000"/>
            <a:ext cx="2498760" cy="3124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419720" y="3505320"/>
            <a:ext cx="358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43200" y="2438280"/>
            <a:ext cx="33526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s Guide to U.S. Government for kids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Quick Facts: Uta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02/11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ensguide.gpo.gov/3-5/state/utah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32440" y="152280"/>
            <a:ext cx="2814840" cy="3581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715000" y="3733920"/>
            <a:ext cx="3124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ta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02/11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enchantedlearning.com/usa/states/utah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228600"/>
            <a:ext cx="533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oadway"/>
              </a:rPr>
              <a:t>Photo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All images Copyright © 1997 - 2000 WriteLine. All Rights Reserved. Utah capitol"/>
          <p:cNvPicPr/>
          <p:nvPr/>
        </p:nvPicPr>
        <p:blipFill>
          <a:blip r:embed="rId1"/>
          <a:stretch/>
        </p:blipFill>
        <p:spPr>
          <a:xfrm rot="348000">
            <a:off x="533520" y="304920"/>
            <a:ext cx="4419360" cy="2946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638680" y="838080"/>
            <a:ext cx="32004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 Card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lt Lake 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UT, 3/3/2011, http://www.postcardsfrom.com/t1/981110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All images Copyright © 1997 - 2000 WriteLine. All Rights Reserved. Dead Horse Point"/>
          <p:cNvPicPr/>
          <p:nvPr/>
        </p:nvPicPr>
        <p:blipFill>
          <a:blip r:embed="rId2"/>
          <a:stretch/>
        </p:blipFill>
        <p:spPr>
          <a:xfrm rot="21279600">
            <a:off x="380880" y="3657240"/>
            <a:ext cx="4419720" cy="2946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638680" y="3809880"/>
            <a:ext cx="32004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 Card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ad Hor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int State Pa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/3/2011, http://www.postcardsfrom.com/t1/98111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Copyright © 1998 WriteLine. All Rights Reserved. Sego Lily"/>
          <p:cNvPicPr/>
          <p:nvPr/>
        </p:nvPicPr>
        <p:blipFill>
          <a:blip r:embed="rId2"/>
          <a:stretch/>
        </p:blipFill>
        <p:spPr>
          <a:xfrm rot="472800">
            <a:off x="457200" y="304920"/>
            <a:ext cx="2185920" cy="2590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124080" y="533520"/>
            <a:ext cx="2590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ah State Stamp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go Li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/3/2011, http://www.postcardsfrom.com/stamp/stamp-u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Copyright © 1998 WriteLine. All Rights Reserved. Seagull"/>
          <p:cNvPicPr/>
          <p:nvPr/>
        </p:nvPicPr>
        <p:blipFill>
          <a:blip r:embed="rId3"/>
          <a:stretch/>
        </p:blipFill>
        <p:spPr>
          <a:xfrm rot="21159600">
            <a:off x="2590560" y="2666520"/>
            <a:ext cx="3581280" cy="2979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400800" y="3505320"/>
            <a:ext cx="190512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ah Stat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am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eagull, 3/3/2011, http://www.postcardsfrom.com/stamp/stamp-u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16:33:35Z</dcterms:created>
  <dc:creator>install</dc:creator>
  <dc:description/>
  <dc:language>en-US</dc:language>
  <cp:lastModifiedBy>install</cp:lastModifiedBy>
  <dcterms:modified xsi:type="dcterms:W3CDTF">2011-03-16T15:55:29Z</dcterms:modified>
  <cp:revision>10</cp:revision>
  <dc:subject/>
  <dc:title>Slide 1</dc:title>
</cp:coreProperties>
</file>